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B18B-B02F-4698-9323-579AB17E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9DA6-CDBF-4C3E-9EF0-5AAAA15B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C924-9DF2-44AD-9B4B-1589C154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EC3-C0C2-4F6B-954B-31CA0E2C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7DD5-1D84-46CF-98EF-A2513B1A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13B3-FB23-4C7D-BEE1-45B25019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DBCC-0BF2-4795-B53B-0E0019CF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09EB-FD92-4025-86D1-72FB74F3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3E44-D7B6-47C6-A265-830E9E93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0D78-47D9-40A5-8710-BF41745E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9EA6-087E-41B9-8D83-1B1BDE53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0853-4359-466A-8286-234102CF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7E65-3746-46EB-9FEB-792B2FFE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608C-43D4-43E9-AC8A-C9CA1A5B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46A4-8D2A-4CE3-9623-3F1B5754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7F21-37E8-4466-B193-05C51BFA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F0AA-6A1E-404E-BE40-DCC83A2E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0BF1DE-96A9-4D0C-9C43-D140FEC6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8F7DA-DB5E-4C97-8B36-A9ADFBC4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5EAE8-62C5-466F-B109-CCC52DD6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0AAB2-8D98-45DD-8D61-DB13C11C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8FADB-183E-467E-9544-19D0C868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E7A5-5828-40E5-B212-BE462869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F6B45-B935-456D-B528-7F33AD56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484F5-1F5B-46A5-B3DD-21EA0452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3E5FF-3259-47DB-AE6C-FE276801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00168-7978-4662-AFEA-458D9784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A5115-10F8-4DE0-B1F9-837712EE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F23D0-FA89-4B88-8C6B-5C0B6208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8A2B4-CD41-44C4-89AF-F1803857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A33C3-9F74-4545-97AA-9CC5BF18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85D79-07CF-45DF-A6EC-A87C8242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F1B82-B0BE-43C3-9954-D15D4B58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C72F-18A6-4BF8-922F-9056793B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6411A-216C-4037-9C29-9511D0FB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538C6-DE3C-4996-9360-D6E6FD60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2FE04-33F0-484A-9256-9FD2C521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77685-C8C6-4684-8FC3-7918B6B0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1D8F9-AAD4-466B-BB16-8C5F568B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032F5-83F9-4083-9BE6-EC627457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513A4-F841-477C-8785-2ADC2833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1A9D8-A964-4E80-9904-2A62F9B5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AC52F-0375-4500-82C1-CDB78711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686F8-889B-403D-B98F-BB4BEAF5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5507-CDB7-4994-A27D-3CCCAD01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A21BD-1607-4DB9-9F34-35FBCF2B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EFE15-479C-4601-8D51-A27F65FE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0F2F1-EAB7-4B87-A9D3-4D0167BB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DBAED-120E-4171-83ED-E0A97027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8613B-A68F-4B3F-865F-C94C1F63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0112F-4880-4087-AAA2-B51C4B4B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9E396-CA91-4261-A25E-2160D4D9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F4BD1-4F51-4CED-AA50-593428F1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32939-7B09-4F19-A8EF-12CB9F58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40304-F9D9-4C1C-ACA6-D0EB48DE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43C3-3850-47EB-B26C-C777BCCA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E4CB0-F4E3-46B0-B97D-1F13E84B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543-8483-4BD2-B997-49C39E28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8436-385A-4027-8F43-DEBEB17A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1BAD-5AAB-413F-9463-C5C3A84A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9971-8989-4FDA-8EFE-2BFF0ABFCB1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4E4F-A6CB-49AF-876F-B44556B8904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6DFC-6973-4287-A352-C3C63DCDC36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FA87-FCC0-4165-8847-F872CF96AE1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DFEA-8541-42EA-A528-FC29C970277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Производственная инфраструктура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рганизационная структура отдела МТС (смешанный тип)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0" y="843120"/>
            <a:ext cx="8964720" cy="5465520"/>
            <a:chOff x="0" y="843120"/>
            <a:chExt cx="8964720" cy="5465520"/>
          </a:xfrm>
        </p:grpSpPr>
        <p:sp>
          <p:nvSpPr>
            <p:cNvPr id="296" name="AutoShape 7"/>
            <p:cNvSpPr/>
            <p:nvPr/>
          </p:nvSpPr>
          <p:spPr>
            <a:xfrm>
              <a:off x="0" y="843120"/>
              <a:ext cx="8964720" cy="54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8"/>
            <p:cNvSpPr/>
            <p:nvPr/>
          </p:nvSpPr>
          <p:spPr>
            <a:xfrm>
              <a:off x="2793960" y="843120"/>
              <a:ext cx="3259440" cy="1038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уководство отде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МТ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9"/>
            <p:cNvSpPr/>
            <p:nvPr/>
          </p:nvSpPr>
          <p:spPr>
            <a:xfrm>
              <a:off x="232920" y="2404800"/>
              <a:ext cx="2095200" cy="169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лановое бюро (групп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6519240" y="2404800"/>
              <a:ext cx="2212560" cy="169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испетчерское бюро (групп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2561040" y="2404800"/>
              <a:ext cx="3842280" cy="169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оварные группы (бюро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 видам продук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                     Б                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2"/>
            <p:cNvSpPr/>
            <p:nvPr/>
          </p:nvSpPr>
          <p:spPr>
            <a:xfrm>
              <a:off x="2561040" y="3315240"/>
              <a:ext cx="384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3"/>
            <p:cNvSpPr/>
            <p:nvPr/>
          </p:nvSpPr>
          <p:spPr>
            <a:xfrm>
              <a:off x="3725280" y="331524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4"/>
            <p:cNvSpPr/>
            <p:nvPr/>
          </p:nvSpPr>
          <p:spPr>
            <a:xfrm>
              <a:off x="5239080" y="3315240"/>
              <a:ext cx="1080" cy="3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15"/>
            <p:cNvSpPr/>
            <p:nvPr/>
          </p:nvSpPr>
          <p:spPr>
            <a:xfrm>
              <a:off x="1862640" y="4096800"/>
              <a:ext cx="1746720" cy="221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клад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№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16"/>
            <p:cNvSpPr/>
            <p:nvPr/>
          </p:nvSpPr>
          <p:spPr>
            <a:xfrm>
              <a:off x="3609360" y="4096800"/>
              <a:ext cx="1629720" cy="221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кла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№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17"/>
            <p:cNvSpPr/>
            <p:nvPr/>
          </p:nvSpPr>
          <p:spPr>
            <a:xfrm>
              <a:off x="5239080" y="4096800"/>
              <a:ext cx="1745640" cy="221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клад №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8"/>
            <p:cNvSpPr/>
            <p:nvPr/>
          </p:nvSpPr>
          <p:spPr>
            <a:xfrm>
              <a:off x="4423680" y="1883880"/>
              <a:ext cx="1080" cy="52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9"/>
            <p:cNvSpPr/>
            <p:nvPr/>
          </p:nvSpPr>
          <p:spPr>
            <a:xfrm>
              <a:off x="1281240" y="2013840"/>
              <a:ext cx="65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20"/>
            <p:cNvSpPr/>
            <p:nvPr/>
          </p:nvSpPr>
          <p:spPr>
            <a:xfrm>
              <a:off x="1281240" y="2013840"/>
              <a:ext cx="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1"/>
            <p:cNvSpPr/>
            <p:nvPr/>
          </p:nvSpPr>
          <p:spPr>
            <a:xfrm>
              <a:off x="7800480" y="2013840"/>
              <a:ext cx="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2"/>
            <p:cNvSpPr/>
            <p:nvPr/>
          </p:nvSpPr>
          <p:spPr>
            <a:xfrm flipV="1">
              <a:off x="3725280" y="370548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3"/>
            <p:cNvSpPr/>
            <p:nvPr/>
          </p:nvSpPr>
          <p:spPr>
            <a:xfrm flipV="1">
              <a:off x="5239080" y="3575520"/>
              <a:ext cx="0" cy="52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87138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хема организационной структуры службы снабжения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314" name="Group 4"/>
          <p:cNvGrpSpPr/>
          <p:nvPr/>
        </p:nvGrpSpPr>
        <p:grpSpPr>
          <a:xfrm>
            <a:off x="0" y="836640"/>
            <a:ext cx="8964720" cy="5832360"/>
            <a:chOff x="0" y="836640"/>
            <a:chExt cx="8964720" cy="5832360"/>
          </a:xfrm>
        </p:grpSpPr>
        <p:sp>
          <p:nvSpPr>
            <p:cNvPr id="315" name="AutoShape 5"/>
            <p:cNvSpPr/>
            <p:nvPr/>
          </p:nvSpPr>
          <p:spPr>
            <a:xfrm>
              <a:off x="0" y="836640"/>
              <a:ext cx="8964720" cy="58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6"/>
            <p:cNvSpPr/>
            <p:nvPr/>
          </p:nvSpPr>
          <p:spPr>
            <a:xfrm>
              <a:off x="1697040" y="1060920"/>
              <a:ext cx="5087160" cy="67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Заместитель директора предприятия (объединения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7"/>
            <p:cNvSpPr/>
            <p:nvPr/>
          </p:nvSpPr>
          <p:spPr>
            <a:xfrm>
              <a:off x="484200" y="2182320"/>
              <a:ext cx="1937880" cy="100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уководство ОМТ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8"/>
            <p:cNvSpPr/>
            <p:nvPr/>
          </p:nvSpPr>
          <p:spPr>
            <a:xfrm>
              <a:off x="4482360" y="2182320"/>
              <a:ext cx="1695600" cy="896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Начальник цеха №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"/>
            <p:cNvSpPr/>
            <p:nvPr/>
          </p:nvSpPr>
          <p:spPr>
            <a:xfrm>
              <a:off x="6662520" y="2182320"/>
              <a:ext cx="1695960" cy="896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Начальник цеха №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0"/>
            <p:cNvSpPr/>
            <p:nvPr/>
          </p:nvSpPr>
          <p:spPr>
            <a:xfrm>
              <a:off x="0" y="3640320"/>
              <a:ext cx="1089360" cy="190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Плановое бюр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(групп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1"/>
            <p:cNvSpPr/>
            <p:nvPr/>
          </p:nvSpPr>
          <p:spPr>
            <a:xfrm>
              <a:off x="1211040" y="3640320"/>
              <a:ext cx="1211040" cy="190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Товарное бюр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(группа) по вида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продук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2"/>
            <p:cNvSpPr/>
            <p:nvPr/>
          </p:nvSpPr>
          <p:spPr>
            <a:xfrm>
              <a:off x="2544120" y="3640320"/>
              <a:ext cx="848160" cy="190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Диспетчерское бюро (группа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3"/>
            <p:cNvSpPr/>
            <p:nvPr/>
          </p:nvSpPr>
          <p:spPr>
            <a:xfrm>
              <a:off x="3513240" y="3640320"/>
              <a:ext cx="1454760" cy="1905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Бюро (групп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организ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складского хозяй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4"/>
            <p:cNvSpPr/>
            <p:nvPr/>
          </p:nvSpPr>
          <p:spPr>
            <a:xfrm>
              <a:off x="5209200" y="3640320"/>
              <a:ext cx="1575000" cy="201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Бюр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(групп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Снаб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Товар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группы п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идам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продукция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5"/>
            <p:cNvSpPr/>
            <p:nvPr/>
          </p:nvSpPr>
          <p:spPr>
            <a:xfrm>
              <a:off x="6904800" y="3640320"/>
              <a:ext cx="1695600" cy="201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Бюр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(групп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Снабжение Исполни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по вида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прод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6"/>
            <p:cNvSpPr/>
            <p:nvPr/>
          </p:nvSpPr>
          <p:spPr>
            <a:xfrm>
              <a:off x="5573160" y="5996520"/>
              <a:ext cx="1331640" cy="559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кла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7"/>
            <p:cNvSpPr/>
            <p:nvPr/>
          </p:nvSpPr>
          <p:spPr>
            <a:xfrm>
              <a:off x="7268760" y="5996520"/>
              <a:ext cx="1211040" cy="559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кла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8"/>
            <p:cNvSpPr/>
            <p:nvPr/>
          </p:nvSpPr>
          <p:spPr>
            <a:xfrm>
              <a:off x="5209200" y="4538520"/>
              <a:ext cx="157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9"/>
            <p:cNvSpPr/>
            <p:nvPr/>
          </p:nvSpPr>
          <p:spPr>
            <a:xfrm>
              <a:off x="6904800" y="4538520"/>
              <a:ext cx="1695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121680" y="5884200"/>
              <a:ext cx="9687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V="1">
              <a:off x="121680" y="6333120"/>
              <a:ext cx="9687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22"/>
            <p:cNvSpPr/>
            <p:nvPr/>
          </p:nvSpPr>
          <p:spPr>
            <a:xfrm>
              <a:off x="1937880" y="1733400"/>
              <a:ext cx="0" cy="44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23"/>
            <p:cNvSpPr/>
            <p:nvPr/>
          </p:nvSpPr>
          <p:spPr>
            <a:xfrm>
              <a:off x="726480" y="3192480"/>
              <a:ext cx="0" cy="4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24"/>
            <p:cNvSpPr/>
            <p:nvPr/>
          </p:nvSpPr>
          <p:spPr>
            <a:xfrm>
              <a:off x="726480" y="3416040"/>
              <a:ext cx="351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25"/>
            <p:cNvSpPr/>
            <p:nvPr/>
          </p:nvSpPr>
          <p:spPr>
            <a:xfrm>
              <a:off x="1695600" y="3416040"/>
              <a:ext cx="0" cy="22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6"/>
            <p:cNvSpPr/>
            <p:nvPr/>
          </p:nvSpPr>
          <p:spPr>
            <a:xfrm>
              <a:off x="2906640" y="3416040"/>
              <a:ext cx="0" cy="22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7"/>
            <p:cNvSpPr/>
            <p:nvPr/>
          </p:nvSpPr>
          <p:spPr>
            <a:xfrm>
              <a:off x="4240080" y="3416040"/>
              <a:ext cx="0" cy="22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8"/>
            <p:cNvSpPr/>
            <p:nvPr/>
          </p:nvSpPr>
          <p:spPr>
            <a:xfrm>
              <a:off x="6057720" y="3080520"/>
              <a:ext cx="0" cy="55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9"/>
            <p:cNvSpPr/>
            <p:nvPr/>
          </p:nvSpPr>
          <p:spPr>
            <a:xfrm>
              <a:off x="7753320" y="3080520"/>
              <a:ext cx="0" cy="55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30"/>
            <p:cNvSpPr/>
            <p:nvPr/>
          </p:nvSpPr>
          <p:spPr>
            <a:xfrm>
              <a:off x="6420600" y="5659920"/>
              <a:ext cx="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31"/>
            <p:cNvSpPr/>
            <p:nvPr/>
          </p:nvSpPr>
          <p:spPr>
            <a:xfrm>
              <a:off x="7995600" y="5659920"/>
              <a:ext cx="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32"/>
            <p:cNvSpPr/>
            <p:nvPr/>
          </p:nvSpPr>
          <p:spPr>
            <a:xfrm>
              <a:off x="2422440" y="2631240"/>
              <a:ext cx="181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33"/>
            <p:cNvSpPr/>
            <p:nvPr/>
          </p:nvSpPr>
          <p:spPr>
            <a:xfrm>
              <a:off x="4240080" y="2631240"/>
              <a:ext cx="0" cy="56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34"/>
            <p:cNvSpPr/>
            <p:nvPr/>
          </p:nvSpPr>
          <p:spPr>
            <a:xfrm>
              <a:off x="4240080" y="3192480"/>
              <a:ext cx="3149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35"/>
            <p:cNvSpPr/>
            <p:nvPr/>
          </p:nvSpPr>
          <p:spPr>
            <a:xfrm>
              <a:off x="5693760" y="3192480"/>
              <a:ext cx="0" cy="447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36"/>
            <p:cNvSpPr/>
            <p:nvPr/>
          </p:nvSpPr>
          <p:spPr>
            <a:xfrm>
              <a:off x="7389360" y="3192480"/>
              <a:ext cx="0" cy="447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37"/>
            <p:cNvSpPr/>
            <p:nvPr/>
          </p:nvSpPr>
          <p:spPr>
            <a:xfrm>
              <a:off x="1211040" y="5659920"/>
              <a:ext cx="3755520" cy="448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Административное подчи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38"/>
            <p:cNvSpPr/>
            <p:nvPr/>
          </p:nvSpPr>
          <p:spPr>
            <a:xfrm>
              <a:off x="1211040" y="6221160"/>
              <a:ext cx="3755520" cy="447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ункциональное подчи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250920" y="189000"/>
            <a:ext cx="8713800" cy="1584360"/>
          </a:xfrm>
          <a:prstGeom prst="rect">
            <a:avLst/>
          </a:prstGeom>
          <a:solidFill>
            <a:srgbClr val="67afbd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Хозяйственные связ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окупность экономически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ых и правовых взаимоотношений, котор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никают между поставщиками и потребител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ств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1547640" y="1773360"/>
            <a:ext cx="1079640" cy="93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7afbd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7"/>
          <p:cNvSpPr/>
          <p:nvPr/>
        </p:nvSpPr>
        <p:spPr>
          <a:xfrm>
            <a:off x="5867280" y="1773360"/>
            <a:ext cx="1150920" cy="93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7afbd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971640" y="2781360"/>
            <a:ext cx="2232000" cy="647640"/>
          </a:xfrm>
          <a:prstGeom prst="rect">
            <a:avLst/>
          </a:prstGeom>
          <a:solidFill>
            <a:srgbClr val="67afbd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я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9"/>
          <p:cNvSpPr/>
          <p:nvPr/>
        </p:nvSpPr>
        <p:spPr>
          <a:xfrm>
            <a:off x="5148360" y="2781360"/>
            <a:ext cx="2808360" cy="720720"/>
          </a:xfrm>
          <a:prstGeom prst="rect">
            <a:avLst/>
          </a:prstGeom>
          <a:solidFill>
            <a:srgbClr val="67afbd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осредов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0"/>
          <p:cNvSpPr/>
          <p:nvPr/>
        </p:nvSpPr>
        <p:spPr>
          <a:xfrm>
            <a:off x="1763640" y="3429000"/>
            <a:ext cx="504720" cy="720720"/>
          </a:xfrm>
          <a:prstGeom prst="downArrow">
            <a:avLst>
              <a:gd name="adj1" fmla="val 50000"/>
              <a:gd name="adj2" fmla="val 35699"/>
            </a:avLst>
          </a:prstGeom>
          <a:solidFill>
            <a:srgbClr val="67afbd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1"/>
          <p:cNvSpPr/>
          <p:nvPr/>
        </p:nvSpPr>
        <p:spPr>
          <a:xfrm>
            <a:off x="6443640" y="3500280"/>
            <a:ext cx="504720" cy="720720"/>
          </a:xfrm>
          <a:prstGeom prst="downArrow">
            <a:avLst>
              <a:gd name="adj1" fmla="val 50000"/>
              <a:gd name="adj2" fmla="val 35699"/>
            </a:avLst>
          </a:prstGeom>
          <a:solidFill>
            <a:srgbClr val="67afbd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0" y="4221000"/>
            <a:ext cx="4176720" cy="2087640"/>
          </a:xfrm>
          <a:prstGeom prst="rect">
            <a:avLst/>
          </a:prstGeom>
          <a:solidFill>
            <a:srgbClr val="67afbd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язи, при которых отношения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авкам проду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навливаются меж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риятиями-изготов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предприятиями-поставщ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ямо, непосредств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3"/>
          <p:cNvSpPr/>
          <p:nvPr/>
        </p:nvSpPr>
        <p:spPr>
          <a:xfrm>
            <a:off x="4427640" y="4221000"/>
            <a:ext cx="4716360" cy="2303640"/>
          </a:xfrm>
          <a:prstGeom prst="rect">
            <a:avLst/>
          </a:prstGeom>
          <a:solidFill>
            <a:srgbClr val="67afbd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язи, когда между эт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риятиями имеется хотя 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ин посредник. Поставки проду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требителю могут осуществля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мешанным путем, т. е. как напряму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 и через посредников(дистрибьютор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жобберов, агентов, брокеров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4470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Схемы хозяйственных связей МТС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0" y="907920"/>
            <a:ext cx="8964720" cy="4680000"/>
            <a:chOff x="0" y="907920"/>
            <a:chExt cx="8964720" cy="4680000"/>
          </a:xfrm>
        </p:grpSpPr>
        <p:sp>
          <p:nvSpPr>
            <p:cNvPr id="360" name="AutoShape 7"/>
            <p:cNvSpPr/>
            <p:nvPr/>
          </p:nvSpPr>
          <p:spPr>
            <a:xfrm>
              <a:off x="0" y="907920"/>
              <a:ext cx="8964720" cy="46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118800" y="907920"/>
              <a:ext cx="2511000" cy="729000"/>
            </a:xfrm>
            <a:prstGeom prst="rect">
              <a:avLst/>
            </a:prstGeom>
            <a:solidFill>
              <a:srgbClr val="00ff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дит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3710160" y="907920"/>
              <a:ext cx="2270520" cy="729000"/>
            </a:xfrm>
            <a:prstGeom prst="rect">
              <a:avLst/>
            </a:prstGeom>
            <a:solidFill>
              <a:srgbClr val="00ff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требит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8600" y="2219040"/>
              <a:ext cx="1673280" cy="735480"/>
            </a:xfrm>
            <a:prstGeom prst="rect">
              <a:avLst/>
            </a:prstGeom>
            <a:solidFill>
              <a:srgbClr val="00ff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осред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5139360" y="2219040"/>
              <a:ext cx="1673280" cy="734040"/>
            </a:xfrm>
            <a:prstGeom prst="rect">
              <a:avLst/>
            </a:prstGeom>
            <a:solidFill>
              <a:srgbClr val="00ff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отребит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0" y="2219040"/>
              <a:ext cx="2032560" cy="734040"/>
            </a:xfrm>
            <a:prstGeom prst="rect">
              <a:avLst/>
            </a:prstGeom>
            <a:solidFill>
              <a:srgbClr val="00ff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оизводит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478080" y="4843080"/>
              <a:ext cx="2032920" cy="732240"/>
            </a:xfrm>
            <a:prstGeom prst="rect">
              <a:avLst/>
            </a:prstGeom>
            <a:solidFill>
              <a:srgbClr val="00ff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оизводит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4"/>
            <p:cNvSpPr/>
            <p:nvPr/>
          </p:nvSpPr>
          <p:spPr>
            <a:xfrm>
              <a:off x="2270520" y="3531960"/>
              <a:ext cx="1673280" cy="732240"/>
            </a:xfrm>
            <a:prstGeom prst="rect">
              <a:avLst/>
            </a:prstGeom>
            <a:solidFill>
              <a:srgbClr val="00ff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средни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5"/>
            <p:cNvSpPr/>
            <p:nvPr/>
          </p:nvSpPr>
          <p:spPr>
            <a:xfrm>
              <a:off x="2629800" y="1199520"/>
              <a:ext cx="10764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6"/>
            <p:cNvSpPr/>
            <p:nvPr/>
          </p:nvSpPr>
          <p:spPr>
            <a:xfrm>
              <a:off x="2031480" y="2656440"/>
              <a:ext cx="717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7"/>
            <p:cNvSpPr/>
            <p:nvPr/>
          </p:nvSpPr>
          <p:spPr>
            <a:xfrm>
              <a:off x="4421880" y="2510640"/>
              <a:ext cx="7171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8"/>
            <p:cNvSpPr/>
            <p:nvPr/>
          </p:nvSpPr>
          <p:spPr>
            <a:xfrm flipV="1">
              <a:off x="1314000" y="3969000"/>
              <a:ext cx="956160" cy="87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9"/>
            <p:cNvSpPr/>
            <p:nvPr/>
          </p:nvSpPr>
          <p:spPr>
            <a:xfrm>
              <a:off x="3943800" y="3823560"/>
              <a:ext cx="717120" cy="10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0"/>
            <p:cNvSpPr/>
            <p:nvPr/>
          </p:nvSpPr>
          <p:spPr>
            <a:xfrm>
              <a:off x="2509560" y="5282280"/>
              <a:ext cx="119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21"/>
            <p:cNvSpPr/>
            <p:nvPr/>
          </p:nvSpPr>
          <p:spPr>
            <a:xfrm>
              <a:off x="6933240" y="907920"/>
              <a:ext cx="2031480" cy="729000"/>
            </a:xfrm>
            <a:prstGeom prst="rect">
              <a:avLst/>
            </a:prstGeom>
            <a:solidFill>
              <a:srgbClr val="00ff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ямая связ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22"/>
            <p:cNvSpPr/>
            <p:nvPr/>
          </p:nvSpPr>
          <p:spPr>
            <a:xfrm>
              <a:off x="6933240" y="2219040"/>
              <a:ext cx="2031480" cy="875160"/>
            </a:xfrm>
            <a:prstGeom prst="rect">
              <a:avLst/>
            </a:prstGeom>
            <a:solidFill>
              <a:srgbClr val="00ff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посредованная связ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23"/>
            <p:cNvSpPr/>
            <p:nvPr/>
          </p:nvSpPr>
          <p:spPr>
            <a:xfrm>
              <a:off x="6933240" y="3969360"/>
              <a:ext cx="2031480" cy="875160"/>
            </a:xfrm>
            <a:prstGeom prst="rect">
              <a:avLst/>
            </a:prstGeom>
            <a:solidFill>
              <a:srgbClr val="00ff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мешанная (гибкая) связ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4"/>
            <p:cNvSpPr/>
            <p:nvPr/>
          </p:nvSpPr>
          <p:spPr>
            <a:xfrm>
              <a:off x="3710160" y="4858560"/>
              <a:ext cx="1793520" cy="729000"/>
            </a:xfrm>
            <a:prstGeom prst="rect">
              <a:avLst/>
            </a:prstGeom>
            <a:solidFill>
              <a:srgbClr val="00ff00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отребите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>
            <a:off x="2843280" y="333360"/>
            <a:ext cx="3240000" cy="504720"/>
          </a:xfrm>
          <a:prstGeom prst="rect">
            <a:avLst/>
          </a:prstGeom>
          <a:solidFill>
            <a:srgbClr val="53548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а поста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 flipH="1">
            <a:off x="2124000" y="549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"/>
          <p:cNvSpPr/>
          <p:nvPr/>
        </p:nvSpPr>
        <p:spPr>
          <a:xfrm flipH="1">
            <a:off x="6084720" y="54936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2124000" y="54936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6732720" y="54936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1042920" y="1700280"/>
            <a:ext cx="2592360" cy="649080"/>
          </a:xfrm>
          <a:prstGeom prst="rect">
            <a:avLst/>
          </a:prstGeom>
          <a:solidFill>
            <a:srgbClr val="53548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анзи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5508720" y="1700280"/>
            <a:ext cx="2519280" cy="720720"/>
          </a:xfrm>
          <a:prstGeom prst="rect">
            <a:avLst/>
          </a:prstGeom>
          <a:solidFill>
            <a:srgbClr val="53548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лад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2"/>
          <p:cNvSpPr/>
          <p:nvPr/>
        </p:nvSpPr>
        <p:spPr>
          <a:xfrm>
            <a:off x="2124000" y="234936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3"/>
          <p:cNvSpPr/>
          <p:nvPr/>
        </p:nvSpPr>
        <p:spPr>
          <a:xfrm>
            <a:off x="6804000" y="2421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4"/>
          <p:cNvSpPr/>
          <p:nvPr/>
        </p:nvSpPr>
        <p:spPr>
          <a:xfrm>
            <a:off x="179280" y="2924280"/>
            <a:ext cx="5113440" cy="3025800"/>
          </a:xfrm>
          <a:prstGeom prst="rect">
            <a:avLst/>
          </a:prstGeom>
          <a:solidFill>
            <a:srgbClr val="53548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альные ресурсы перемещаются 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авщика к потребителю прямо, мину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межуточные базы и скла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реднических организаций. Такая фор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абжения для материалов с не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требностью приводит к увелич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асов и связанных с этим расхо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5"/>
          <p:cNvSpPr/>
          <p:nvPr/>
        </p:nvSpPr>
        <p:spPr>
          <a:xfrm>
            <a:off x="5614920" y="2924280"/>
            <a:ext cx="3529080" cy="2305080"/>
          </a:xfrm>
          <a:prstGeom prst="rect">
            <a:avLst/>
          </a:prstGeom>
          <a:solidFill>
            <a:srgbClr val="53548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альные ресурс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возятся на склады и баз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реднических организац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затем с них отгружаю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осредственно потребите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250920" y="259920"/>
            <a:ext cx="8540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ехнико-экономического обосновани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бора формы снабж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спользуется формул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ма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 максимальное количество материала, которое экономическ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есообразно подучить от складских организаций, натур, е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рения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К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коэффициент использования производственных фондов 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ржания производственных запасов, %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 и 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средняя величина партии поставки соответственно пр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анзитной и складской формах снабжения, натур, е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рения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 и 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- величина расходов по доставке и хранению материал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ответственно при транзитной и складской формах снабжения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% к цен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4"/>
              <p:cNvSpPr txBox="1"/>
              <p:nvPr/>
            </p:nvSpPr>
            <p:spPr>
              <a:xfrm>
                <a:off x="1187280" y="1413000"/>
                <a:ext cx="698508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K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П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ТР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П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СКЛ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СКЛ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ТР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250920" y="189000"/>
            <a:ext cx="8569080" cy="136836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еспечение материальными ресурсами производств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хов, участков и других подразделений предприя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полагает выполнение следующих фун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3564000" y="1557360"/>
            <a:ext cx="165564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250920" y="2205000"/>
            <a:ext cx="8424720" cy="439092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ление количественных и качественных заданий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абжению (лимитирован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ка материальных ресурсов к производственн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ребл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пуск и доставку материальных ресурсов со склада служ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абжения на место ее непосредственного потребления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клад цеха, участ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еративное регулирование снаб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т и контроль за использованием материаль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одразделениях предпри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179280" y="259920"/>
            <a:ext cx="86630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ими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Л    - лимит данной номенклатуры продукции;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   - потребность цеха в материалах для выполнени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роизводственной программы;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 -  потребность цеха в материалах для изменения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незавершенного производства (+ увеличение, - уменьшение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Н - норматив цехового запа­са данной продукции;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О - расчетный ожидаемый остаток данной продукции в цехе на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начало планового периода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ленный лимит фиксируется в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лан-карте, лимитной карте, лимитной или заборной ведом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е направляются складу и цеху-потребителю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4"/>
              <p:cNvSpPr txBox="1"/>
              <p:nvPr/>
            </p:nvSpPr>
            <p:spPr>
              <a:xfrm>
                <a:off x="2340000" y="907920"/>
                <a:ext cx="42480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Л</m:t>
                    </m:r>
                    <m:r>
                      <m:t xml:space="preserve">=</m:t>
                    </m:r>
                    <m:r>
                      <m:t xml:space="preserve">Р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изп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Н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01680" y="260280"/>
            <a:ext cx="85406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лан-карт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ычно применяется в массовом и крупносерийном производстве, т. е. в условиях стабильной потребности и четкой регламентации производств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Лимитная кар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спользуется в тех случаях, когда жесткая регламентация поставок внутри месяца по срокам и объемам затруднительна (серийное и индивидуальное производство). В лимитной карте указываются месячная потребность в материале, величина запаса и месячный лимит расход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лимитную ведом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ключаются обычно группа однородных материалов или все получаемые с данного склада материал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Заборные ведомости (карты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водятся при лимитировании расхода вспомогательных материалов, обычно в случаях, когда потребность в них неравномерная и отсутствуют достаточно точные нормы расход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79280" y="18864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i="1" lang="ru-RU" sz="2200" spc="-1" strike="noStrike">
                <a:solidFill>
                  <a:srgbClr val="ff0000"/>
                </a:solidFill>
                <a:latin typeface="Times New Roman"/>
              </a:rPr>
              <a:t>Раскройно-транспортная задач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то задача оптимизации поставок рулонных материалов, учитывающая величину транспортных издержек и затраты, вызванные образованием технологических отходов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шение задачи сводится к минимизации совокупных затрат на отходы при раскрое и транспортировке. Используется математическая модель вида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условии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4"/>
              <p:cNvSpPr txBox="1"/>
              <p:nvPr/>
            </p:nvSpPr>
            <p:spPr>
              <a:xfrm>
                <a:off x="3132000" y="2781360"/>
                <a:ext cx="33116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/>
                    </m:nary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02" name="Rectangle 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6"/>
              <p:cNvSpPr txBox="1"/>
              <p:nvPr/>
            </p:nvSpPr>
            <p:spPr>
              <a:xfrm>
                <a:off x="250920" y="4292640"/>
                <a:ext cx="23050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04" name="Rectangle 9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8"/>
              <p:cNvSpPr txBox="1"/>
              <p:nvPr/>
            </p:nvSpPr>
            <p:spPr>
              <a:xfrm>
                <a:off x="3059280" y="4365720"/>
                <a:ext cx="33130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  <m:e/>
                    </m:nary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r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06" name="Rectangle 11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10"/>
              <p:cNvSpPr txBox="1"/>
              <p:nvPr/>
            </p:nvSpPr>
            <p:spPr>
              <a:xfrm>
                <a:off x="7020000" y="4221000"/>
                <a:ext cx="187164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&gt;</m:t>
                        </m:r>
                        <m:nary>
                          <m:naryPr>
                            <m:chr m:val="∑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08" name="Rectangle 1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12"/>
              <p:cNvSpPr txBox="1"/>
              <p:nvPr/>
            </p:nvSpPr>
            <p:spPr>
              <a:xfrm>
                <a:off x="1042920" y="5805360"/>
                <a:ext cx="1584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bSup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Rectangle 1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14"/>
              <p:cNvSpPr txBox="1"/>
              <p:nvPr/>
            </p:nvSpPr>
            <p:spPr>
              <a:xfrm>
                <a:off x="4932360" y="5516640"/>
                <a:ext cx="3456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Sup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bSup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Рассматриваемы вопросы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79280" y="1916280"/>
            <a:ext cx="87249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держание и задачи производственной инфраструктур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уктура и функции материально-технического обеспечения на предприят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ганизация поставок материальных ресурсов на предприят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ганизация снабжения производственных цехов и участк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0" y="-36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- индекс пункта производства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1,2, …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- индекс пункта потребления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1,2,...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  - ширина рулона (формат) материала, вырабатываемог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м предприятием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м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 - ширина рулона (фор­мат) материала, необходимог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му потребителю,см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- индекс возможного способа раскроя полосы формат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требительские форматы Н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= 1,2, …,)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количество способов раскроя руло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том 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м предприятии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 - число полос продукции формат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краиваемо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м способом из рулон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ат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м предприятии, Р 0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величина краевого отхода, образующегося при раскрое рулона форматом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з полосы форматом Н способом  см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объем производства продукции 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м предприятии, т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 объем потребления продукции 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м предприятии, т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-  оптовая цена 1 т про­дукц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го предприятия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- тариф за перевозку продукции о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ставщика д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риятия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 количество продукции в услов­ных единицах, раскраиваемой по способ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м предприятии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коэффициент, учитывающий совокупные затраты, связанные с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­нием отходов при -м способе раскроя и транспортировк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ал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13" name="Рисунок 126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276120" cy="57636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127" descr=""/>
          <p:cNvPicPr/>
          <p:nvPr/>
        </p:nvPicPr>
        <p:blipFill>
          <a:blip r:embed="rId2"/>
          <a:stretch/>
        </p:blipFill>
        <p:spPr>
          <a:xfrm>
            <a:off x="539640" y="2924280"/>
            <a:ext cx="216000" cy="50472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132" descr=""/>
          <p:cNvPicPr/>
          <p:nvPr/>
        </p:nvPicPr>
        <p:blipFill>
          <a:blip r:embed="rId3"/>
          <a:stretch/>
        </p:blipFill>
        <p:spPr>
          <a:xfrm>
            <a:off x="250920" y="3500280"/>
            <a:ext cx="358560" cy="50328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36" descr=""/>
          <p:cNvPicPr/>
          <p:nvPr/>
        </p:nvPicPr>
        <p:blipFill>
          <a:blip r:embed="rId4"/>
          <a:stretch/>
        </p:blipFill>
        <p:spPr>
          <a:xfrm>
            <a:off x="250920" y="4508640"/>
            <a:ext cx="277560" cy="43308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39" descr=""/>
          <p:cNvPicPr/>
          <p:nvPr/>
        </p:nvPicPr>
        <p:blipFill>
          <a:blip r:embed="rId5"/>
          <a:stretch/>
        </p:blipFill>
        <p:spPr>
          <a:xfrm>
            <a:off x="250920" y="5373720"/>
            <a:ext cx="403200" cy="50472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141" descr=""/>
          <p:cNvPicPr/>
          <p:nvPr/>
        </p:nvPicPr>
        <p:blipFill>
          <a:blip r:embed="rId6"/>
          <a:stretch/>
        </p:blipFill>
        <p:spPr>
          <a:xfrm>
            <a:off x="324000" y="6021360"/>
            <a:ext cx="3441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50560" y="260280"/>
            <a:ext cx="85914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жным условием нормального бесперебойного хода производства является четкая организация производственной инфраструктур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помогательные                  Обслуживающ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ссы                             процес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Line 4"/>
          <p:cNvSpPr/>
          <p:nvPr/>
        </p:nvSpPr>
        <p:spPr>
          <a:xfrm flipH="1">
            <a:off x="1763280" y="2060640"/>
            <a:ext cx="1871640" cy="143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4859280" y="2133720"/>
            <a:ext cx="1227240" cy="1512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0643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Требования к организации вспомогательного и обслуживающих процессов: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191628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меть профилактический характер 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упреждать возможные нарушения нормально производства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вать условия для организации специализированного выполнения работ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иться на основе технико-экономической, технологической и организационной регламентации вспомогательных и обслуживающих процессов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еспечивать условия выпуска максимума высококачественной продукции при минимуме затрат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еспечивать гибкость, преемственность и минимальную перестройку при переходе в основном производстве с одной продукции на другую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бесперебойного функционирования производства необходимо хорошо налаженное материально-техническое обеспечение (МТО), которое на предприятиях осуществляется через органы материально-технического снабж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ной задачей органов снабжения предприятия является своевременное и оптимальное обеспечение производств необходимыми материальными ресурсами соответствующей комплектности и качеств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ая эту задачу, работники органов снабжения должны изучать и учитывать спрос и предложение на все потребляемые предприятием материальные ресурсы, уровень и изменение цен на них и на услуги посреднических организаций, выбирать наиболее экономичную форму товародвижения, оптимизировать запасы, снижать транспортно-заготовительные и складские расход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Organization Chart 6"/>
          <p:cNvGrpSpPr/>
          <p:nvPr/>
        </p:nvGrpSpPr>
        <p:grpSpPr>
          <a:xfrm>
            <a:off x="250920" y="333360"/>
            <a:ext cx="8496000" cy="5830560"/>
            <a:chOff x="250920" y="333360"/>
            <a:chExt cx="8496000" cy="5830560"/>
          </a:xfrm>
        </p:grpSpPr>
        <p:cxnSp>
          <p:nvCxnSpPr>
            <p:cNvPr id="278" name="_s1028"/>
            <p:cNvCxnSpPr>
              <a:stCxn id="279" idx="0"/>
              <a:endCxn id="280" idx="3"/>
            </p:cNvCxnSpPr>
            <p:nvPr/>
          </p:nvCxnSpPr>
          <p:spPr>
            <a:xfrm flipV="1" rot="16200000">
              <a:off x="5400000" y="1635480"/>
              <a:ext cx="1166760" cy="322488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dedede"/>
              </a:solidFill>
              <a:miter/>
            </a:ln>
          </p:spPr>
        </p:cxnSp>
        <p:cxnSp>
          <p:nvCxnSpPr>
            <p:cNvPr id="281" name="_s1029"/>
            <p:cNvCxnSpPr>
              <a:stCxn id="282" idx="0"/>
              <a:endCxn id="280" idx="3"/>
            </p:cNvCxnSpPr>
            <p:nvPr/>
          </p:nvCxnSpPr>
          <p:spPr>
            <a:xfrm flipV="1" rot="16200000">
              <a:off x="3914640" y="3120840"/>
              <a:ext cx="1166760" cy="25416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dedede"/>
              </a:solidFill>
              <a:miter/>
            </a:ln>
          </p:spPr>
        </p:cxnSp>
        <p:cxnSp>
          <p:nvCxnSpPr>
            <p:cNvPr id="283" name="_s1030"/>
            <p:cNvCxnSpPr>
              <a:stCxn id="284" idx="0"/>
              <a:endCxn id="280" idx="3"/>
            </p:cNvCxnSpPr>
            <p:nvPr/>
          </p:nvCxnSpPr>
          <p:spPr>
            <a:xfrm flipH="1" flipV="1" rot="5400000">
              <a:off x="2428200" y="1887840"/>
              <a:ext cx="1166760" cy="2720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dedede"/>
              </a:solidFill>
              <a:miter/>
            </a:ln>
          </p:spPr>
        </p:cxnSp>
        <p:sp>
          <p:nvSpPr>
            <p:cNvPr id="280" name="_s1031"/>
            <p:cNvSpPr/>
            <p:nvPr/>
          </p:nvSpPr>
          <p:spPr>
            <a:xfrm>
              <a:off x="3224520" y="333360"/>
              <a:ext cx="2548800" cy="2332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53548a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Функции органо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набжен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едприят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032"/>
            <p:cNvSpPr/>
            <p:nvPr/>
          </p:nvSpPr>
          <p:spPr>
            <a:xfrm>
              <a:off x="250920" y="3831840"/>
              <a:ext cx="2548800" cy="2332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43808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Планир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033"/>
            <p:cNvSpPr/>
            <p:nvPr/>
          </p:nvSpPr>
          <p:spPr>
            <a:xfrm>
              <a:off x="3224520" y="3831840"/>
              <a:ext cx="2548800" cy="2332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43808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Организационн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_s1034"/>
            <p:cNvSpPr/>
            <p:nvPr/>
          </p:nvSpPr>
          <p:spPr>
            <a:xfrm>
              <a:off x="6198120" y="3831840"/>
              <a:ext cx="2548800" cy="23320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43808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Контролирующ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координирующ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4"/>
          <p:cNvSpPr/>
          <p:nvPr/>
        </p:nvSpPr>
        <p:spPr>
          <a:xfrm>
            <a:off x="2627280" y="260280"/>
            <a:ext cx="4176720" cy="72072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ункция планир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4211640" y="981000"/>
            <a:ext cx="1081080" cy="1224000"/>
          </a:xfrm>
          <a:prstGeom prst="downArrow">
            <a:avLst>
              <a:gd name="adj1" fmla="val 50000"/>
              <a:gd name="adj2" fmla="val 25003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324000" y="2276640"/>
            <a:ext cx="8569080" cy="439236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ение внешней и внутренней среды предприятия, а так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ынка отдельных това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нозирование и определение потребности всех вид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ьных ресурсов, планирование оптим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зяйственных связ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мизацию производственных запа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ирование потребности материалов и установление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мита на отпуск цех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еративное планирование снаб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"/>
          <p:cNvSpPr/>
          <p:nvPr/>
        </p:nvSpPr>
        <p:spPr>
          <a:xfrm>
            <a:off x="2268360" y="189000"/>
            <a:ext cx="4465800" cy="71892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ая фун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6"/>
          <p:cNvSpPr/>
          <p:nvPr/>
        </p:nvSpPr>
        <p:spPr>
          <a:xfrm>
            <a:off x="3924360" y="907920"/>
            <a:ext cx="1152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250920" y="1700280"/>
            <a:ext cx="8713800" cy="496872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бор информации о потребной продукции, участие в ярмарк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тавках-продажах, аукционах и т. п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з всех источников удовлетворения потребност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ьных ресурсах с целью выбора наибо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мально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ючение с поставщиками хозяйственных договоров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авку проду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ие и организацию завоза реальных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ю складского хозяйства, входящего в сост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ов снабж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ение цехов, участков, рабочих мест необходим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ьными ресур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4"/>
          <p:cNvSpPr/>
          <p:nvPr/>
        </p:nvSpPr>
        <p:spPr>
          <a:xfrm>
            <a:off x="324000" y="189000"/>
            <a:ext cx="8496000" cy="863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тролирующая или координирующая фун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4067280" y="1052640"/>
            <a:ext cx="100944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324000" y="1989000"/>
            <a:ext cx="8569080" cy="46800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троль над выполнением договорных обязатель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авщиков, выполнение ими сроков поставки проду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троль над расходованием материальных ресурсов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ст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ной контроль над качеством и комплектн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упающих материальных рес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троль над производственными запас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движение претензий поставщикам и транспорт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з действенности снабженческой службы, разработ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роприятий по координации снабженческой деятельност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ю ее эффе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08:49:10Z</dcterms:created>
  <dc:creator>User</dc:creator>
  <dc:description/>
  <dc:language>en-US</dc:language>
  <cp:lastModifiedBy>Оля</cp:lastModifiedBy>
  <dcterms:modified xsi:type="dcterms:W3CDTF">2012-05-26T05:07:01Z</dcterms:modified>
  <cp:revision>6</cp:revision>
  <dc:subject/>
  <dc:title>«Производственная инфраструктура» </dc:title>
</cp:coreProperties>
</file>